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4DA-B843-4F44-91F6-6B9DEA37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0AA-A609-47DC-982C-83B2E7D9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279A3-CF1F-4D4A-BBDF-6034C235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5808C-840F-4616-BC63-612AFB76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8C76D-A94E-4FCB-8257-48A59831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B38D0-02A2-403B-8612-98535D84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A2A1E-3CFF-40A2-933B-2657E51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016CE-3401-4D0C-BE34-2A0189AE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EF890-26FB-41D4-883E-3B726445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1A5F5-6A15-4D50-B85A-93891838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05864-C256-4AA8-BF15-3D129BCF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E9486-AEFD-40E8-99E4-5E131243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B15B-1B22-40EA-A739-0ABA84FE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12AFC-28E7-4E72-BD88-0ED8B2F0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FC89C-6006-4C71-A140-9DF11201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B8AB0-DC9A-4953-8B10-42CA7783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3B9E3-875E-4997-AAC0-2A7E0C72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B897D-477B-413A-B7B3-3B420542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BE7D7-9D6F-453E-85F5-190BD8C3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15872-0764-4970-AC51-50C77BBC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C5434-E8C4-4B74-B846-3F611D03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11FBF-A7B9-46F6-8288-552A8C68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AB49D-A9C0-49B5-8EE7-4C9860FF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208-F24C-4105-94B9-3411E983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53436-332B-466B-A3CA-49B67A1D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6499-4F8A-4ABC-82B9-A7E3232C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41B1-D5B2-4AC2-BD4C-8192B8AA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C02D-C6C4-4ACA-8065-0F17C866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3CD9-8F52-42D7-AD3E-261FB461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9FAF-69A9-47EF-80A1-7219C221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B610-C2BB-4364-BE1C-73FE08D5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4917-94E6-4E46-8A3A-F0BFFD63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375-3258-4022-AB67-24A331B2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BC52-B4B1-44F8-AEC9-5258A2D3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51D9-F528-4AC8-9BA7-527F11FA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C079-9D18-4C06-9EC3-AFD10C71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457C-8306-49EE-8423-8AA9AB00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E654-8547-41A3-8123-71B1782D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F5E3-DF5F-4EB4-A809-31670EB2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FBA1-1859-4427-B86A-BF58815D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5CD0-F116-4E6D-B8EB-696ACF61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B9873-395C-4C4C-AF73-8F8677A1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64B40-CFD7-4033-9BEA-B1DAF168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53F-BB88-4918-8676-25D63591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A042-88C1-4A3E-97E1-F75FC1BA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4D16-852F-4917-B9C8-8C864C6B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9ADE-993D-4B34-AC18-0854E878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55DF-2B86-4F7F-BC18-39DD895B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2D77-EF52-4E8C-9945-296D6371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EDB6D-EBC6-4CD1-BEDB-E6ADC25D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5E17-3DAD-495F-BCB6-5807D996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BC567-479E-4B90-8945-898736A5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96820-E9EF-4E65-ACCC-1396B3E1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6711-F61B-4E13-8594-FB9BAA97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12A-36D0-4478-82D5-8E4A1B44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81152-99BC-43B0-8EDE-01A47B0A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7C656-3940-436E-B229-5DFEE132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15D5-C6DF-44A6-93E0-BA8E1F6F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C7467-ABDC-4CA0-A2C9-E1D293F3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25D7A-48CD-45ED-89D7-FB0C87BD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7E524-FB30-40F6-B609-7C3F095D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8CCC9-CA54-4299-83BB-ACE93724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05924-F915-4896-ACFF-EF76E528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5D250-FB23-4FB6-A406-E0AE2E9C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BB7E8-7952-4A56-AF38-A296F4A2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29D-B1FF-4E93-878F-69C365BB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34384-49A4-4D33-9D44-BDCB83D8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66863-DED8-4EB4-BD7C-F3752C68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8F89D-DDB4-464E-8C5C-AE3D901E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815BA-D97A-4696-BCD6-D2E8F125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8B9E5-12BA-425D-BB2B-74968E66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575DB-0194-43FE-A878-287FE25A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08CD9-9591-40D0-B208-F545ED46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B9A1-440B-4443-B0FC-10E1F4CF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93C2-D704-4534-956B-33308040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821AF-D1CE-417F-829A-062ABA9D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608-5AB1-4CEF-B6B1-CE67230C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7A43A-89DA-4865-A402-FC5E8C54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8673F-5BE7-41D7-B275-B61C21F3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4FCAE-B907-43A4-B9E4-26031924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A8204-28AF-4199-B5BC-3CDA0DB2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99679-0CE3-42F3-AB81-E1E9E486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945B1-BE66-489F-83C2-44928CD7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C71C1-AA00-444F-85FC-F97E4FE4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84673-2C0D-4E64-8917-9E29C29F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FFB72-F912-47F8-A0BA-4FE45BCC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72127-3599-4A4C-9B18-41826C40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5F9-EF2D-48F2-BA5A-0AB213B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F62F0-4326-4F7C-BB19-3596238D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7E511-E771-4EC2-B353-2EBC60EB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6FCA3-F4E9-49AE-AF62-E1CB942C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EA253-68EA-4AED-9AAB-14633A78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DD7EB-7E71-4361-A137-42621D4A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35382-6F49-42D2-B6FE-B521568E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0EFCD-8B8F-44AD-9E96-36DCEBDF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2A497-BCF0-4738-9A9D-94E731FF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6D333-43F7-465E-BBA6-150250B9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63003-9E6B-45F9-BF16-3C495AA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3B2-8D3B-4D19-BECF-4BC07A71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066E5-356D-4393-87AD-FE364167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0F06B-8E2B-410D-9548-E54D134E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23CBD-A4A1-4D4F-9130-4749ACB5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AADDC-59A5-4D2C-A779-18FA5F3B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EB619-1C1C-4BD1-A378-6F1B22C6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F7E85-A52F-4A3E-A659-61C8EAC0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E54F5-8DE4-4847-87B1-CC56F971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D2A65-5C55-4066-A891-F9C292D6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BB9F5-B801-489C-9FE7-A5126ACA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06A41-27EE-47F6-A76E-3AF2F745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CFC-3440-4470-805E-C6B2924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CBE97-E432-4E40-A9F6-D3FFE837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839D7-0B58-4117-9D92-22B59072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95FD2-F2F5-4EF5-8A75-E096C6C9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6E561-1B7A-4976-B0E0-D4C10170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C0A8-49B7-4ADF-A78E-22ED9507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D08B5-18C3-43AD-A228-97508550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4665D-C2F0-4F7D-853D-8E0AFEED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3D568-1416-4903-843E-8AEDA77C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84769-2DBB-4BF8-9BCE-CDA87EE6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3C2AD-25B7-4FB1-8957-E663689F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50CC-D8B9-4681-B001-7E3002A5797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E76F-38DB-4B59-9C93-9D48C09C1FC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F6E1-56C4-45B6-9268-465112D410D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9E56-9900-4122-BF62-045D87CF0E1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0274-ACF8-4A09-9B52-6E58E52BB56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5F99-29B5-46A4-B6CE-EFF9A2705AB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849C-BA1F-434C-9B3B-1AFFE38C93A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E8AF-3BEF-4B54-A5D5-AFE460079FF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2D41-A946-4564-B3FB-B942CB7815A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CEDA-2104-4BA1-8FCD-B934B788083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2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르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도 잘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부모님께서도 안녕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hese days, nowadays, recen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지내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o get along (do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부모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떻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how; interrogative adve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떻게 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을 어떻게 만들었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어떻게 생겼습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	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께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; honorific expression of 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선생님께서 이야기하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할아버지께서 오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아버지께서 신문을 읽으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lso, too; a subject/object post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저도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좋습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도 압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음식도 맛있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Particle? Or Post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맑은 고딕"/>
              </a:rPr>
              <a:t>Make nouns/prenouns int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ject/object/possesive for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quivalent array ( ~ and ~, ~ or ~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djective or adverbe phra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맑은 고딕"/>
              </a:rPr>
              <a:t>Postpositions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씨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r. (Ms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르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e, exist, pres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친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rector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어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youn ger br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,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장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일러 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부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 교수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임지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윤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24T14:40:06Z</dcterms:modified>
  <cp:revision>70</cp:revision>
  <dc:subject/>
  <dc:title>KOREAN LANGUAGE</dc:title>
</cp:coreProperties>
</file>